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3978720"/>
            <a:ext cx="79200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56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8960" y="162864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640" y="162864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397872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8960" y="397872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640" y="3978720"/>
            <a:ext cx="25498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1280" y="367920"/>
            <a:ext cx="79200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560" y="397872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560" y="1628640"/>
            <a:ext cx="3864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3978720"/>
            <a:ext cx="79200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0" y="6489720"/>
            <a:ext cx="9360000" cy="558720"/>
          </a:xfrm>
          <a:prstGeom prst="roundRect">
            <a:avLst>
              <a:gd name="adj" fmla="val 282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250920" y="6497640"/>
            <a:ext cx="21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2592360" y="6497640"/>
            <a:ext cx="540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3280" indent="-41328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28000" indent="-375480">
              <a:spcBef>
                <a:spcPts val="275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43080" indent="-337680">
              <a:spcBef>
                <a:spcPts val="2750"/>
              </a:spcBef>
              <a:buClr>
                <a:srgbClr val="ffcc99"/>
              </a:buClr>
              <a:buFont typeface="Wingdings" charset="2"/>
              <a:buChar char="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95600" indent="-337680">
              <a:spcBef>
                <a:spcPts val="2750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110320" indent="-299880">
              <a:spcBef>
                <a:spcPts val="2750"/>
              </a:spcBef>
              <a:buClr>
                <a:srgbClr val="ffffff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110320" indent="-299880">
              <a:spcBef>
                <a:spcPts val="2750"/>
              </a:spcBef>
              <a:buClr>
                <a:srgbClr val="000000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110320" indent="-299880">
              <a:spcBef>
                <a:spcPts val="2750"/>
              </a:spcBef>
              <a:buClr>
                <a:srgbClr val="000000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1600" y="2195280"/>
            <a:ext cx="79200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Esercitazione 2</a:t>
            </a:r>
            <a:br>
              <a:rPr sz="3200"/>
            </a:br>
            <a:br>
              <a:rPr sz="3200"/>
            </a:b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Array, funzioni, form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368280"/>
            <a:ext cx="79200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Esercizio 2.9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Realizzare le pagine per il login utente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Una form per il login (inserimento login e password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Una pagina PHP per il controllo del login – password – vedi esercizio 2.6 -  supponendo che login e password corretti siano contenuti in due variabili $logincorretto e $passwordcorrett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Arial Unicode MS"/>
              </a:rPr>
              <a:t>Esercizio 2.10 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iprendere l’esercizio 2.9 e creare due versioni della pagina aggiungendo il controllo riempimento campi della form in modo tale che l’utente sia obbligato a compilare sia il campo login che password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alizzare il controllo in javascrip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alizzare il controllo in PHP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32880" y="184320"/>
            <a:ext cx="792036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Esercizio 2.11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87160" y="1058760"/>
            <a:ext cx="819612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Arial"/>
              </a:rPr>
              <a:t>Realizzare una parte di applicazione web per la registrazione degli utenti. Sarà realizzata con una form HTML che chieda all’utente le seguenti informazioni: 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700" spc="-1" strike="noStrike">
                <a:solidFill>
                  <a:srgbClr val="ffffff"/>
                </a:solidFill>
                <a:latin typeface="Arial"/>
              </a:rPr>
              <a:t>Nicknam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700" spc="-1" strike="noStrike">
                <a:solidFill>
                  <a:srgbClr val="ffffff"/>
                </a:solidFill>
                <a:latin typeface="Arial"/>
              </a:rPr>
              <a:t>Password (far digitare due volte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700" spc="-1" strike="noStrike">
                <a:solidFill>
                  <a:srgbClr val="ffffff"/>
                </a:solidFill>
                <a:latin typeface="Arial"/>
              </a:rPr>
              <a:t>Nom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700" spc="-1" strike="noStrike">
                <a:solidFill>
                  <a:srgbClr val="ffffff"/>
                </a:solidFill>
                <a:latin typeface="Arial"/>
              </a:rPr>
              <a:t>Cognome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700" spc="-1" strike="noStrike">
                <a:solidFill>
                  <a:srgbClr val="ffffff"/>
                </a:solidFill>
                <a:latin typeface="Arial"/>
              </a:rPr>
              <a:t>Città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700" spc="-1" strike="noStrike">
                <a:solidFill>
                  <a:srgbClr val="ffffff"/>
                </a:solidFill>
                <a:latin typeface="Arial"/>
              </a:rPr>
              <a:t>Regione (select a scelta unica con i nomi di tutte le regioni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700" spc="-1" strike="noStrike">
                <a:solidFill>
                  <a:srgbClr val="ffffff"/>
                </a:solidFill>
                <a:latin typeface="Arial"/>
              </a:rPr>
              <a:t>Colore di sfondo preferito (radio button con alcuni colori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7944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700" spc="-1" strike="noStrike">
                <a:solidFill>
                  <a:srgbClr val="ffffff"/>
                </a:solidFill>
                <a:latin typeface="Arial"/>
              </a:rPr>
              <a:t>Generi musicali preferiti (ad es. rock, pop, jazz, classica etc etc) (select a scelta multipla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0"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8960" y="0"/>
            <a:ext cx="79200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Esercizio 2.12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77600"/>
            <a:ext cx="887904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Arial"/>
                <a:ea typeface="Arial"/>
              </a:rPr>
              <a:t>Realizzare la pagina PHP di gestione della form di registrazione precedente (</a:t>
            </a:r>
            <a:r>
              <a:rPr b="1" i="1" lang="it-IT" sz="2100" spc="-1" strike="noStrike">
                <a:solidFill>
                  <a:srgbClr val="ffffff"/>
                </a:solidFill>
                <a:latin typeface="Arial"/>
                <a:ea typeface="Arial"/>
              </a:rPr>
              <a:t>registrationform.php</a:t>
            </a:r>
            <a:r>
              <a:rPr b="1" lang="it-IT" sz="2100" spc="-1" strike="noStrike">
                <a:solidFill>
                  <a:srgbClr val="ffffff"/>
                </a:solidFill>
                <a:latin typeface="Arial"/>
                <a:ea typeface="Arial"/>
              </a:rPr>
              <a:t>) che riceva tutti i dati inseriti, esegua un controllo: 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it-IT" sz="2100" spc="-1" strike="noStrike">
                <a:solidFill>
                  <a:srgbClr val="ffffff"/>
                </a:solidFill>
                <a:latin typeface="Arial"/>
                <a:ea typeface="Arial"/>
              </a:rPr>
              <a:t>Sul nick, se risulta vuoto deve restituire un messaggio di errore.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Arial"/>
                <a:ea typeface="Arial"/>
              </a:rPr>
              <a:t>Sulla password, le due password inserite devono coincidere 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Arial"/>
                <a:ea typeface="Arial"/>
              </a:rPr>
              <a:t>Poi scrive sul browser un messaggio personalizzato del tipo “Buongiorno </a:t>
            </a:r>
            <a:r>
              <a:rPr b="1" i="1" lang="it-IT" sz="2100" spc="-1" strike="noStrike">
                <a:solidFill>
                  <a:srgbClr val="ffffff"/>
                </a:solidFill>
                <a:latin typeface="Courier New"/>
                <a:ea typeface="Arial"/>
              </a:rPr>
              <a:t>nomeutente</a:t>
            </a:r>
            <a:r>
              <a:rPr b="1" i="1" lang="it-IT" sz="21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it-IT" sz="2100" spc="-1" strike="noStrike">
                <a:solidFill>
                  <a:srgbClr val="ffffff"/>
                </a:solidFill>
                <a:latin typeface="Arial"/>
                <a:ea typeface="Arial"/>
              </a:rPr>
              <a:t>oggi è il</a:t>
            </a:r>
            <a:r>
              <a:rPr b="1" i="1" lang="it-IT" sz="2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it-IT" sz="2100" spc="-1" strike="noStrike">
                <a:solidFill>
                  <a:srgbClr val="ffffff"/>
                </a:solidFill>
                <a:latin typeface="Courier New"/>
                <a:ea typeface="Arial"/>
              </a:rPr>
              <a:t>datadioggi</a:t>
            </a:r>
            <a:r>
              <a:rPr b="1" i="1" lang="it-IT" sz="21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it-IT" sz="2100" spc="-1" strike="noStrike">
                <a:solidFill>
                  <a:srgbClr val="ffffff"/>
                </a:solidFill>
                <a:latin typeface="Arial"/>
                <a:ea typeface="Arial"/>
              </a:rPr>
              <a:t>sono le ore</a:t>
            </a:r>
            <a:r>
              <a:rPr b="1" i="1" lang="it-IT" sz="2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it-IT" sz="2100" spc="-1" strike="noStrike">
                <a:solidFill>
                  <a:srgbClr val="ffffff"/>
                </a:solidFill>
                <a:latin typeface="Courier New"/>
                <a:ea typeface="Arial"/>
              </a:rPr>
              <a:t>oraattuale</a:t>
            </a:r>
            <a:r>
              <a:rPr b="1" i="1" lang="it-IT" sz="2100" spc="-1" strike="noStrike">
                <a:solidFill>
                  <a:srgbClr val="ffffff"/>
                </a:solidFill>
                <a:latin typeface="Arial"/>
                <a:ea typeface="Arial"/>
              </a:rPr>
              <a:t> e </a:t>
            </a:r>
            <a:r>
              <a:rPr b="1" lang="it-IT" sz="2100" spc="-1" strike="noStrike">
                <a:solidFill>
                  <a:srgbClr val="ffffff"/>
                </a:solidFill>
                <a:latin typeface="Arial"/>
                <a:ea typeface="Arial"/>
              </a:rPr>
              <a:t>i dati da te inseriti sono</a:t>
            </a:r>
            <a:r>
              <a:rPr b="1" i="1" lang="it-IT" sz="2100" spc="-1" strike="noStrike">
                <a:solidFill>
                  <a:srgbClr val="ffffff"/>
                </a:solidFill>
                <a:latin typeface="Arial"/>
                <a:ea typeface="Arial"/>
              </a:rPr>
              <a:t>:” </a:t>
            </a:r>
            <a:r>
              <a:rPr b="1" lang="it-IT" sz="2100" spc="-1" strike="noStrike">
                <a:solidFill>
                  <a:srgbClr val="ffffff"/>
                </a:solidFill>
                <a:latin typeface="Arial"/>
                <a:ea typeface="Arial"/>
              </a:rPr>
              <a:t>e la lista delle preferenze inserite nella form. 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Arial"/>
                <a:ea typeface="Arial"/>
              </a:rPr>
              <a:t>Dove </a:t>
            </a:r>
            <a:r>
              <a:rPr b="1" i="1" lang="it-IT" sz="2100" spc="-1" strike="noStrike">
                <a:solidFill>
                  <a:srgbClr val="ffffff"/>
                </a:solidFill>
                <a:latin typeface="Courier New"/>
                <a:ea typeface="Arial"/>
              </a:rPr>
              <a:t>nomeutente </a:t>
            </a:r>
            <a:r>
              <a:rPr b="1" lang="it-IT" sz="2100" spc="-1" strike="noStrike">
                <a:solidFill>
                  <a:srgbClr val="ffffff"/>
                </a:solidFill>
                <a:latin typeface="Arial"/>
                <a:ea typeface="Arial"/>
              </a:rPr>
              <a:t>indica il nome inserito dall’utente, </a:t>
            </a:r>
            <a:r>
              <a:rPr b="1" i="1" lang="it-IT" sz="2100" spc="-1" strike="noStrike">
                <a:solidFill>
                  <a:srgbClr val="ffffff"/>
                </a:solidFill>
                <a:latin typeface="Courier New"/>
                <a:ea typeface="Arial"/>
              </a:rPr>
              <a:t>datadioggi</a:t>
            </a:r>
            <a:r>
              <a:rPr b="1" lang="it-IT" sz="2100" spc="-1" strike="noStrike">
                <a:solidFill>
                  <a:srgbClr val="ffffff"/>
                </a:solidFill>
                <a:latin typeface="Arial"/>
                <a:ea typeface="Arial"/>
              </a:rPr>
              <a:t> indica la data odierna e </a:t>
            </a:r>
            <a:r>
              <a:rPr b="1" i="1" lang="it-IT" sz="2100" spc="-1" strike="noStrike">
                <a:solidFill>
                  <a:srgbClr val="ffffff"/>
                </a:solidFill>
                <a:latin typeface="Courier New"/>
                <a:ea typeface="Arial"/>
              </a:rPr>
              <a:t>oraattuale</a:t>
            </a:r>
            <a:r>
              <a:rPr b="1" lang="it-IT" sz="2100" spc="-1" strike="noStrike">
                <a:solidFill>
                  <a:srgbClr val="ffffff"/>
                </a:solidFill>
                <a:latin typeface="Arial"/>
                <a:ea typeface="Arial"/>
              </a:rPr>
              <a:t> l’ora attuale.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368280"/>
            <a:ext cx="7920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Arial Unicode MS"/>
              </a:rPr>
              <a:t>Esercizio 2.13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struire un layout di una pagina web, strutturando le diverse parti di una pagina (header, footer, menu etc)  usando la modularizzazione del codice PHP con l’uso di “include”.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9324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Arial Unicode MS"/>
              </a:rPr>
              <a:t>Esercizio 2.14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11280" y="1339920"/>
            <a:ext cx="7920000" cy="55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3280" indent="-41328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reare una form come in figura con un totale di  6 righ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3280" indent="-41328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3280" indent="-413280"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3280" indent="-41328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ove ruolo puo’ indicare una ruolo a vostra scelta (in famiglia, tra amici, in un gioco)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3280" indent="-41328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 partire dai parametri inseriti nella form, creare un array associativo in cui la chiave è il ruolo ed il valore è il formato da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nome.|.età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concatenazione tra stringhe divise dal carattere | ).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3280" indent="-41328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ampare a video l'array in ordine inverso delle chiavi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504720" y="19191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" name="Group 10"/>
          <p:cNvGrpSpPr/>
          <p:nvPr/>
        </p:nvGrpSpPr>
        <p:grpSpPr>
          <a:xfrm>
            <a:off x="1558800" y="1955880"/>
            <a:ext cx="5015160" cy="825480"/>
            <a:chOff x="1558800" y="1955880"/>
            <a:chExt cx="5015160" cy="825480"/>
          </a:xfrm>
        </p:grpSpPr>
        <p:sp>
          <p:nvSpPr>
            <p:cNvPr id="72" name="Rectangle 3"/>
            <p:cNvSpPr/>
            <p:nvPr/>
          </p:nvSpPr>
          <p:spPr>
            <a:xfrm>
              <a:off x="1558800" y="2034360"/>
              <a:ext cx="1125360" cy="25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TextBox 5"/>
            <p:cNvSpPr/>
            <p:nvPr/>
          </p:nvSpPr>
          <p:spPr>
            <a:xfrm>
              <a:off x="2865600" y="1955880"/>
              <a:ext cx="6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ta’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Rectangle 6"/>
            <p:cNvSpPr/>
            <p:nvPr/>
          </p:nvSpPr>
          <p:spPr>
            <a:xfrm>
              <a:off x="3543840" y="2042280"/>
              <a:ext cx="540000" cy="25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Rectangle 8"/>
            <p:cNvSpPr/>
            <p:nvPr/>
          </p:nvSpPr>
          <p:spPr>
            <a:xfrm>
              <a:off x="5512680" y="2048760"/>
              <a:ext cx="1061280" cy="23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TextBox 9"/>
          <p:cNvSpPr/>
          <p:nvPr/>
        </p:nvSpPr>
        <p:spPr>
          <a:xfrm>
            <a:off x="4487760" y="1935000"/>
            <a:ext cx="10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o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Group 11"/>
          <p:cNvGrpSpPr/>
          <p:nvPr/>
        </p:nvGrpSpPr>
        <p:grpSpPr>
          <a:xfrm>
            <a:off x="1552680" y="2325600"/>
            <a:ext cx="5014800" cy="825480"/>
            <a:chOff x="1552680" y="2325600"/>
            <a:chExt cx="5014800" cy="825480"/>
          </a:xfrm>
        </p:grpSpPr>
        <p:sp>
          <p:nvSpPr>
            <p:cNvPr id="78" name="Rectangle 12"/>
            <p:cNvSpPr/>
            <p:nvPr/>
          </p:nvSpPr>
          <p:spPr>
            <a:xfrm>
              <a:off x="1552680" y="2403720"/>
              <a:ext cx="1125360" cy="25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TextBox 13"/>
            <p:cNvSpPr/>
            <p:nvPr/>
          </p:nvSpPr>
          <p:spPr>
            <a:xfrm>
              <a:off x="2859120" y="2325600"/>
              <a:ext cx="6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ta’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Rectangle 14"/>
            <p:cNvSpPr/>
            <p:nvPr/>
          </p:nvSpPr>
          <p:spPr>
            <a:xfrm>
              <a:off x="3537360" y="2412000"/>
              <a:ext cx="540000" cy="25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5"/>
            <p:cNvSpPr/>
            <p:nvPr/>
          </p:nvSpPr>
          <p:spPr>
            <a:xfrm>
              <a:off x="5506200" y="2418120"/>
              <a:ext cx="1061280" cy="23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" name="TextBox 16"/>
          <p:cNvSpPr/>
          <p:nvPr/>
        </p:nvSpPr>
        <p:spPr>
          <a:xfrm>
            <a:off x="512640" y="2273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Box 17"/>
          <p:cNvSpPr/>
          <p:nvPr/>
        </p:nvSpPr>
        <p:spPr>
          <a:xfrm>
            <a:off x="4495680" y="2274840"/>
            <a:ext cx="10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o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368280"/>
            <a:ext cx="79200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Esercizio 2.1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Creare l’array presentato nei lucidi ([pippo, pluto, etc]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Visualizzare sul browser tutto il contenuto dell’array formattato come tabella, con una riga di intestazione “Personaggi” in grassetto e poi una riga per ogni elemento (una sola colonna)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Aggiungere all’array un nuovo personaggio (archimede)  e ri-visualizzare la tabell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368280"/>
            <a:ext cx="7920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Esercizio 2.2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n riferimento all’array definito nell’esercizio precedente (“pippo”,”pluto”,.....) , realizzare uno ch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Esegua una stampa di tutti gli elementi dell’array, eseguae il sort, ristampi tutti gli elementi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Eseguire di seguito una rsort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Ristampare gli elementi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6200" y="2203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Esercizio 2.3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Scrivere una funzione php che riceva in input un array, esegua un ordinamento e restituisca come valore il primo elemento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Richiamare la funzione dallo script php con argomento l’array definito negli esercizi precedenti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Stampare il risultato restituito dalla funzion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85400"/>
            <a:ext cx="79200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Esercizio 2.4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Cambiare il colore dello sfondo della pagina in base al giorno della settimana - usando gli array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368280"/>
            <a:ext cx="79200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Esercizio 2.5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900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Arial"/>
              </a:rPr>
              <a:t>Riprendete l’esercizio dell’esercitazione 1 sul messaggio di benvenuto dipendente  all’orario. 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Arial"/>
              </a:rPr>
              <a:t>Aggiungere al messaggio di benvenuto un proverbio casuale tra una scelta di almeno tre proverbi (potete cercare su internet tre proverbi, definite un array dove ogni elemento è un proverbio, usare la funzione shuffle)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18880"/>
            <a:ext cx="79200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Esercizio 2.6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1280" y="1420560"/>
            <a:ext cx="79200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Scrivere una funzione </a:t>
            </a:r>
            <a:r>
              <a:rPr b="1" i="1" lang="it-IT" sz="1800" spc="-1" strike="noStrike">
                <a:solidFill>
                  <a:srgbClr val="ffff99"/>
                </a:solidFill>
                <a:latin typeface="Arial"/>
              </a:rPr>
              <a:t>controllologin($log,$pass)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che riceva in input un login e una password ed esegua un controllo di login password rispetto a due valori delle variabili </a:t>
            </a:r>
            <a:r>
              <a:rPr b="1" lang="it-IT" sz="1800" spc="-1" strike="noStrike">
                <a:solidFill>
                  <a:srgbClr val="ffff99"/>
                </a:solidFill>
                <a:latin typeface="Arial"/>
              </a:rPr>
              <a:t>$login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1" lang="it-IT" sz="1800" spc="-1" strike="noStrike">
                <a:solidFill>
                  <a:srgbClr val="ffff99"/>
                </a:solidFill>
                <a:latin typeface="Arial"/>
              </a:rPr>
              <a:t>$password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definite all’interno della funzione in modo statico (ad es. siano </a:t>
            </a:r>
            <a:r>
              <a:rPr b="1" lang="it-IT" sz="1800" spc="-1" strike="noStrike">
                <a:solidFill>
                  <a:srgbClr val="ffff99"/>
                </a:solidFill>
                <a:latin typeface="Arial"/>
              </a:rPr>
              <a:t>$login=“admin”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1" lang="it-IT" sz="1800" spc="-1" strike="noStrike">
                <a:solidFill>
                  <a:srgbClr val="ffff99"/>
                </a:solidFill>
                <a:latin typeface="Arial"/>
              </a:rPr>
              <a:t>$password=“nimda”).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Il controllo dovrà generare la scritta “</a:t>
            </a:r>
            <a:r>
              <a:rPr b="1" lang="it-IT" sz="1800" spc="-1" strike="noStrike">
                <a:solidFill>
                  <a:srgbClr val="cc0000"/>
                </a:solidFill>
                <a:latin typeface="Arial"/>
              </a:rPr>
              <a:t>login  e password ok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” quando il login in input coincide con </a:t>
            </a:r>
            <a:r>
              <a:rPr b="1" lang="it-IT" sz="1800" spc="-1" strike="noStrike">
                <a:solidFill>
                  <a:srgbClr val="ffff99"/>
                </a:solidFill>
                <a:latin typeface="Arial"/>
              </a:rPr>
              <a:t>$login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e la password con </a:t>
            </a:r>
            <a:r>
              <a:rPr b="1" lang="it-IT" sz="1800" spc="-1" strike="noStrike">
                <a:solidFill>
                  <a:srgbClr val="ffff99"/>
                </a:solidFill>
                <a:latin typeface="Arial"/>
              </a:rPr>
              <a:t>$password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. Dovrà invece generare la scritta “</a:t>
            </a:r>
            <a:r>
              <a:rPr b="1" lang="it-IT" sz="1800" spc="-1" strike="noStrike">
                <a:solidFill>
                  <a:srgbClr val="cc0000"/>
                </a:solidFill>
                <a:latin typeface="Arial"/>
              </a:rPr>
              <a:t>login sbagliato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” quando il login risulta errato e “</a:t>
            </a:r>
            <a:r>
              <a:rPr b="1" lang="it-IT" sz="1800" spc="-1" strike="noStrike">
                <a:solidFill>
                  <a:srgbClr val="cc0000"/>
                </a:solidFill>
                <a:latin typeface="Arial"/>
              </a:rPr>
              <a:t>password errata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” quando la password non coincid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Richiamare la funzione dallo script php con valori diversi in modo da generare tutti e tre i cas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207720"/>
            <a:ext cx="7920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Esercizio 2.7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Spostare la funzione </a:t>
            </a:r>
            <a:r>
              <a:rPr b="1" lang="it-IT" sz="2200" spc="-1" strike="noStrike">
                <a:solidFill>
                  <a:srgbClr val="ffff99"/>
                </a:solidFill>
                <a:latin typeface="Arial"/>
              </a:rPr>
              <a:t>controllologin(...)</a:t>
            </a: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 nel file </a:t>
            </a:r>
            <a:r>
              <a:rPr b="1" i="1" lang="it-IT" sz="2200" spc="-1" strike="noStrike">
                <a:solidFill>
                  <a:srgbClr val="ffffff"/>
                </a:solidFill>
                <a:latin typeface="Arial"/>
              </a:rPr>
              <a:t>checklogin.php</a:t>
            </a: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 e includerlo nello script precedente con la funzione </a:t>
            </a:r>
            <a:r>
              <a:rPr b="1" i="1" lang="it-IT" sz="2200" spc="-1" strike="noStrike">
                <a:solidFill>
                  <a:srgbClr val="ffffff"/>
                </a:solidFill>
                <a:latin typeface="Arial"/>
              </a:rPr>
              <a:t>includ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-41760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Testare il funzionamento dello script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368280"/>
            <a:ext cx="79200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Esercizio 2.8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Realizzare una pagina che cambi il colore di sfondo in base alle preferenze dell’utente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L’utente potrà esprimere il suo colore preferito tramite una opportuna FORM.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32:23Z</dcterms:created>
  <dc:creator/>
  <dc:description/>
  <dc:language>en-US</dc:language>
  <cp:lastModifiedBy>Chiara Renso</cp:lastModifiedBy>
  <dcterms:modified xsi:type="dcterms:W3CDTF">2010-04-26T11:46:25Z</dcterms:modified>
  <cp:revision>135</cp:revision>
  <dc:subject/>
  <dc:title>Laboratorio di Progettazione Web</dc:title>
</cp:coreProperties>
</file>